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761760" y="6095880"/>
            <a:ext cx="8381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0" y="152280"/>
            <a:ext cx="60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614880" y="6275520"/>
            <a:ext cx="24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ntrepreneurial Finan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lman and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6705720" y="6103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2010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415296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C1D9B439-1E93-4318-9066-A4D8731B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pter 9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Value of Money Part II: Annu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1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$5,000 deposited at the beginning of each year for 10 years at 6% compounded an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295280" y="3429000"/>
                <a:ext cx="647712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983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8983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1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1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: You invested $50,000 and collected 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 so you earned interest of $19,8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$100 invested at the beginning of each month at 12% compounded monthly for 3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1600200" y="3581280"/>
                <a:ext cx="6629400" cy="19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0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7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76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: You invested $3,600 and collected $4,3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 so you earned interest of $7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515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$1,200 deposited at the beginning each year for 3 years at 12% if the money is compounded month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mode of payment (annually) does not equal the mode of compounding (monthly) we have to find the effective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905120" y="4495680"/>
                <a:ext cx="57909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6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 (Example)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4390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en use the effective rate as the actual interest rate to determine the future value of an annuity due factor and then solve for the future value a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1371600" y="3581280"/>
                <a:ext cx="6781680" cy="16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68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68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4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2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2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68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7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7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paring Ordinary Annuity and 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286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schedule di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1144800" y="4314960"/>
            <a:ext cx="3046320" cy="1628640"/>
            <a:chOff x="1144800" y="4314960"/>
            <a:chExt cx="3046320" cy="1628640"/>
          </a:xfrm>
        </p:grpSpPr>
        <p:sp>
          <p:nvSpPr>
            <p:cNvPr id="79" name="Text Box 8"/>
            <p:cNvSpPr/>
            <p:nvPr/>
          </p:nvSpPr>
          <p:spPr>
            <a:xfrm>
              <a:off x="1144800" y="431496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inary Annui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Object 13"/>
                <p:cNvSpPr txBox="1"/>
                <p:nvPr/>
              </p:nvSpPr>
              <p:spPr>
                <a:xfrm>
                  <a:off x="1219320" y="4881600"/>
                  <a:ext cx="2971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VOA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i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i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Group 12"/>
          <p:cNvGrpSpPr/>
          <p:nvPr/>
        </p:nvGrpSpPr>
        <p:grpSpPr>
          <a:xfrm>
            <a:off x="4495680" y="4273560"/>
            <a:ext cx="3997440" cy="1660680"/>
            <a:chOff x="4495680" y="4273560"/>
            <a:chExt cx="3997440" cy="1660680"/>
          </a:xfrm>
        </p:grpSpPr>
        <mc:AlternateContent>
          <mc:Choice xmlns:a14="http://schemas.microsoft.com/office/drawing/2010/main" Requires="a14">
            <p:sp>
              <p:nvSpPr>
                <p:cNvPr id="82" name="Object 16"/>
                <p:cNvSpPr txBox="1"/>
                <p:nvPr/>
              </p:nvSpPr>
              <p:spPr>
                <a:xfrm>
                  <a:off x="4495680" y="4883040"/>
                  <a:ext cx="3997440" cy="105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VAD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i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Text Box 11"/>
            <p:cNvSpPr/>
            <p:nvPr/>
          </p:nvSpPr>
          <p:spPr>
            <a:xfrm>
              <a:off x="5397480" y="4273560"/>
              <a:ext cx="17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uity D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Object 12"/>
          <p:cNvGraphicFramePr/>
          <p:nvPr/>
        </p:nvGraphicFramePr>
        <p:xfrm>
          <a:off x="1295280" y="2438280"/>
          <a:ext cx="7201080" cy="12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72010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3"/>
          <p:cNvSpPr/>
          <p:nvPr/>
        </p:nvSpPr>
        <p:spPr>
          <a:xfrm>
            <a:off x="1143000" y="380988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formulas d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Ordinary Annuit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362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a stream of paymen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? The formula i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2209680" y="3352680"/>
                <a:ext cx="518184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present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present value annuity factor which is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Ordinary Annuity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134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a retirement account if you receive $60,000 per year at the end of each year for 30 years if money earns 8% compounded an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1676520" y="3276720"/>
                <a:ext cx="5943600" cy="26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2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27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27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05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7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7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Ordinary Annuity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3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$100 received at the end of each month for 3 years if money earns 12% compounded month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2133720" y="3276720"/>
                <a:ext cx="5506920" cy="27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75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2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a stream of payments that are received at the beginning of each time period? The formula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016000" y="3200400"/>
                <a:ext cx="5756400" cy="27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present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present value annuity factor which i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3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esent value of $50,000 paid at the beginning of each year for the next 20 years if money can earn 7% per ye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1600200" y="3276720"/>
                <a:ext cx="64771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7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7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9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65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7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165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165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3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56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5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6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differences between an ordinary annuity and an annuity d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future value and present value annuity factors that are used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several of the methods provided in time value of money to solve real-life financial probl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057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do we have to place in an account today to receive $100 payment at the beginning of each month if money earns 12% annual interest compounded month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2362320" y="3505320"/>
                <a:ext cx="477684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0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0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.</m:t>
                                                </m:r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num>
                                              <m:den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12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5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1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5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16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166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86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8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86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974880" y="1793880"/>
            <a:ext cx="7484760" cy="2081160"/>
            <a:chOff x="974880" y="1793880"/>
            <a:chExt cx="7484760" cy="2081160"/>
          </a:xfrm>
        </p:grpSpPr>
        <p:graphicFrame>
          <p:nvGraphicFramePr>
            <p:cNvPr id="107" name="Object 8"/>
            <p:cNvGraphicFramePr/>
            <p:nvPr/>
          </p:nvGraphicFramePr>
          <p:xfrm>
            <a:off x="1065240" y="2590920"/>
            <a:ext cx="7394400" cy="1284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5240" y="2590920"/>
                      <a:ext cx="739440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8"/>
            <p:cNvSpPr/>
            <p:nvPr/>
          </p:nvSpPr>
          <p:spPr>
            <a:xfrm>
              <a:off x="974880" y="1793880"/>
              <a:ext cx="428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yments Di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14"/>
          <p:cNvSpPr/>
          <p:nvPr/>
        </p:nvSpPr>
        <p:spPr>
          <a:xfrm>
            <a:off x="4479840" y="4079880"/>
            <a:ext cx="359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4343400" y="4267080"/>
            <a:ext cx="4497480" cy="1676520"/>
            <a:chOff x="4343400" y="4267080"/>
            <a:chExt cx="4497480" cy="1676520"/>
          </a:xfrm>
        </p:grpSpPr>
        <mc:AlternateContent>
          <mc:Choice xmlns:a14="http://schemas.microsoft.com/office/drawing/2010/main" Requires="a14">
            <p:sp>
              <p:nvSpPr>
                <p:cNvPr id="112" name="Object 6"/>
                <p:cNvSpPr txBox="1"/>
                <p:nvPr/>
              </p:nvSpPr>
              <p:spPr>
                <a:xfrm>
                  <a:off x="4343400" y="4648320"/>
                  <a:ext cx="4497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VAD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i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i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Text Box 15"/>
            <p:cNvSpPr/>
            <p:nvPr/>
          </p:nvSpPr>
          <p:spPr>
            <a:xfrm>
              <a:off x="4724280" y="4267080"/>
              <a:ext cx="374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esent Value of an Annuity D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609480" y="3809880"/>
            <a:ext cx="3810240" cy="2229120"/>
            <a:chOff x="609480" y="3809880"/>
            <a:chExt cx="3810240" cy="2229120"/>
          </a:xfrm>
        </p:grpSpPr>
        <p:sp>
          <p:nvSpPr>
            <p:cNvPr id="115" name="Text Box 18"/>
            <p:cNvSpPr/>
            <p:nvPr/>
          </p:nvSpPr>
          <p:spPr>
            <a:xfrm>
              <a:off x="990720" y="38098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 formulas di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9"/>
            <p:cNvGrpSpPr/>
            <p:nvPr/>
          </p:nvGrpSpPr>
          <p:grpSpPr>
            <a:xfrm>
              <a:off x="609480" y="4229280"/>
              <a:ext cx="3808800" cy="1809720"/>
              <a:chOff x="609480" y="4229280"/>
              <a:chExt cx="3808800" cy="1809720"/>
            </a:xfrm>
          </p:grpSpPr>
          <mc:AlternateContent>
            <mc:Choice xmlns:a14="http://schemas.microsoft.com/office/drawing/2010/main" Requires="a14">
              <p:sp>
                <p:nvSpPr>
                  <p:cNvPr id="117" name="Object 7"/>
                  <p:cNvSpPr txBox="1"/>
                  <p:nvPr/>
                </p:nvSpPr>
                <p:spPr>
                  <a:xfrm>
                    <a:off x="609480" y="4724280"/>
                    <a:ext cx="3673440" cy="131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Text Box 21"/>
              <p:cNvSpPr/>
              <p:nvPr/>
            </p:nvSpPr>
            <p:spPr>
              <a:xfrm>
                <a:off x="744480" y="4229280"/>
                <a:ext cx="367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esent Value of an Ordinary Annuti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62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anks actually calculate daily interest on accounts. For example: What is the present value of $1,200 a year, received at the beginning of each year, at 12% annual interest compounded da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we have to calculate the effective annual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828800" y="4343400"/>
                <a:ext cx="54864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7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n Annuity Due (Example)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95480" y="198072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en calculate the present value using the effective annual rate of 12.75%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447920" y="3124080"/>
                <a:ext cx="7010280" cy="25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75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3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75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75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13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75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713</m:t>
                                        </m:r>
                                      </m:e>
                                    </m:d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13</m:t>
                                    </m:r>
                                  </m:num>
                                  <m:den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21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3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and Amortiz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ank loans are based on the present value of an ordinary annuity. Example: using a 30-year mortg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276720" y="2819520"/>
                <a:ext cx="281916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3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3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7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and Amortization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Using a 15-year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2743200" y="2743200"/>
                <a:ext cx="3200400" cy="28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08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0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06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9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ortizatio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duction of a loan balance by applying each month’s principal pay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mortization table (Table 9-3) is based on the reduction of the loan over time and provides the lender and borrower with the following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an amortization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f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al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ining loan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ortization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6"/>
          <p:cNvGraphicFramePr/>
          <p:nvPr/>
        </p:nvGraphicFramePr>
        <p:xfrm>
          <a:off x="2600280" y="152280"/>
          <a:ext cx="4105440" cy="588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52280"/>
                    <a:ext cx="410544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ypes of Mortgag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95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re based on scores determined by Fair Isaac Corporation (FICO) score. FICO Range is 500 to 85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extremely poor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50 for outstanding cred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basic types of mortgage loans granted by lend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e Mortgag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tanding credit sc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sufficient capital to make substantial down pay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e Mortgagee (Alt 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med primarily at individuals who are improving their sc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had a credit problem in the pa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prime lo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 credit rat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Times New Roman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dered to be high ri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financial calculator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preadsheet applications of the mathematics of fi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inancial tables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future and present value amounts by solving problems involving annuities and lump su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bining Lump Sums and Annuiti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open a 401k with $300 per month and increase the monthly payments by $200 each year until you have the maximum $1,250 monthly payment ($15,000 per year). The 401k is in mutual funds that average 11%. You are currently 26 and plan to retire at 6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erefore have to construct a table that incorporates both the lump sum contributions and the annuities as illustrated on the following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bining Lump Sums and Annuiti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42" name="Object 10"/>
          <p:cNvGraphicFramePr/>
          <p:nvPr/>
        </p:nvGraphicFramePr>
        <p:xfrm>
          <a:off x="1828800" y="1712880"/>
          <a:ext cx="622620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12880"/>
                    <a:ext cx="62262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Ordinary Annuit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5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a stream of paymen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 when the money is invested at the end of each compounding perio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 is found on the following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mula for Future Value of 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rdinary Annuity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143000" y="2035080"/>
                <a:ext cx="7467480" cy="35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future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future value annuity factor which is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Ordinary Annuit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hat is the future value of $5,000 invested at the end of each year for 10 years if money earns 6% per ann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447920" y="3578400"/>
                <a:ext cx="64008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08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6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08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Ordinary Annuity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5120" y="1828440"/>
            <a:ext cx="7210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hat is the future value of $100 deposited at the end of each month at 12% annual interest compounded monthly for three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3352680"/>
                <a:ext cx="4419360" cy="26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O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0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e>
                                    </m:d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100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00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308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0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you use a table the answer is $4,3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n 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a stream of payment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 when the money is invested at the beginning of each compounding perio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ula is shown on the next sl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ormula for Future Value of 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nuity Du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90720" y="2098800"/>
                <a:ext cx="7238880" cy="35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A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future valu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annu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A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he future value annuity factor which i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interest rate per time period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number of compounding periods per year times the number of yea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0:36:06Z</dcterms:created>
  <dc:creator>Philip J. Adelman</dc:creator>
  <dc:description/>
  <dc:language>en-US</dc:language>
  <cp:lastModifiedBy>David McNaughton</cp:lastModifiedBy>
  <cp:lastPrinted>2000-04-13T22:47:49Z</cp:lastPrinted>
  <dcterms:modified xsi:type="dcterms:W3CDTF">2009-12-18T17:03:31Z</dcterms:modified>
  <cp:revision>36</cp:revision>
  <dc:subject/>
  <dc:title>No Slide Title</dc:title>
</cp:coreProperties>
</file>